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032D-23DC-403B-B0C4-2AEA40D8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6111-EABF-4DAD-8477-865132EC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01EBA-53B6-4DE0-BBE8-A76908A0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A506-48DB-4465-A30E-C6DC9FA2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6E1E-8292-407D-9FA5-DDDA4A27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2F2A-7CFC-481B-B6D7-C70CAD3C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B803-3F25-4BC0-86E6-DE206B41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4F92-10C9-464D-80DE-87F1CF8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AF8B-2B91-486C-AA3B-B40FBDBE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E6EF-AE29-4F5E-A051-05CB5EDD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4BB8-6664-47E9-9635-659ACF4F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D5F4-F808-4EA1-BFC8-6108D955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492B-FD6F-4B53-BDEB-DA8684C8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8B92-94BF-4A48-96F9-CBAADE6A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A55E-39F5-4670-A5DC-D3609510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9880-B880-4246-A5BB-E80B3F79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5D43-4757-4501-82C6-6A54413D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8664-24A7-46AC-9CCB-A1ED0A4B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90B4-C835-4D13-8E23-86518634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D4D0-1ED8-44FD-BD81-3F766730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B42D-E246-41C1-9767-DD58AEB2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AF4F-4BB0-4ABD-BA30-F8775655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6E38-5157-41C6-A4A1-C8E98872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A837-5388-4F3E-B47D-8F09073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D832-8E06-4F78-8F4D-9BC8EFC077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E625-4CED-497B-A74C-1716C17DD5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амуил Марша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Цирк шапито»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0" y="-100080"/>
            <a:ext cx="8893080" cy="158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. Что означает слово шапи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. Кто герои этого стихотворения? Назовите одни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. Составьте программу циркового представления по стихотворению. Запишите программу в рабочую тетрадь на с.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 Почему фокусника-ежа назвали бессовес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5. Что нужно сделать с героями, чтобы представление в цирке нач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6. Как называется человек, который ведёт концерт или цирковое предст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7. Составьте рассказ (4-5 предложений) на тему: «Цир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23:29Z</dcterms:created>
  <dc:creator>1</dc:creator>
  <dc:description/>
  <dc:language>en-US</dc:language>
  <cp:lastModifiedBy>Школа №58</cp:lastModifiedBy>
  <dcterms:modified xsi:type="dcterms:W3CDTF">2011-03-09T05:26:45Z</dcterms:modified>
  <cp:revision>5</cp:revision>
  <dc:subject/>
  <dc:title>Цирк шапито.</dc:title>
</cp:coreProperties>
</file>